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A94-1391-40B6-A004-C98EC031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035-0073-4E58-BE80-A6D9214E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9A0-5AA9-4E10-8AF3-3C452A5F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C1E-6678-4512-9047-FD3994A8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DBE-5389-4517-96F7-0F34EEE1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7B6-8851-456D-9198-8316397A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C03-1603-4A9F-AF5F-D2B942AB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8FD-C31B-477A-A20B-71EA9169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CFD-E714-4CF8-BED2-0F2D1987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D56-B00D-4C4B-9151-636C8B34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74F-35E4-445B-AEA5-160459EE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E5F-082F-4E25-8AD7-1F9EB59E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FDCF-A702-43E3-96DB-A96F47A917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NDUSTRIAL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rking Men, Working Women, Working Child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nically low w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wages: $400-500 pe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ary required for decent living: $600 pe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gerous work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death rate, high injury rate and chronic ill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sition of the labor force by 1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% wo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% girls and 20% boys under the age of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and children are poorly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ughestown2.jpg"/>
          <p:cNvPicPr/>
          <p:nvPr/>
        </p:nvPicPr>
        <p:blipFill>
          <a:blip r:embed="rId2"/>
          <a:stretch/>
        </p:blipFill>
        <p:spPr>
          <a:xfrm>
            <a:off x="1004760" y="806400"/>
            <a:ext cx="7201080" cy="5092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hild_labor.jpg"/>
          <p:cNvPicPr/>
          <p:nvPr/>
        </p:nvPicPr>
        <p:blipFill>
          <a:blip r:embed="rId3"/>
          <a:stretch/>
        </p:blipFill>
        <p:spPr>
          <a:xfrm>
            <a:off x="1447920" y="1219320"/>
            <a:ext cx="3774960" cy="254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AND.JPE.jpeg"/>
          <p:cNvPicPr/>
          <p:nvPr/>
        </p:nvPicPr>
        <p:blipFill>
          <a:blip r:embed="rId4"/>
          <a:stretch/>
        </p:blipFill>
        <p:spPr>
          <a:xfrm>
            <a:off x="2590920" y="2209680"/>
            <a:ext cx="50799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cism in the Workpla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riminatory wage structure and pract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s earn more than blacks or As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stants earn more than Catholics or J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ack workers earn less at every level and sk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Chinese Exclusion Act prohibits Chinese immigration for 1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Ju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MeatpackingPlant.jpg"/>
          <p:cNvPicPr/>
          <p:nvPr/>
        </p:nvPicPr>
        <p:blipFill>
          <a:blip r:embed="rId1"/>
          <a:srcRect l="-11786" t="0" r="-1178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pril 22 06 image-721152.jpg"/>
          <p:cNvPicPr/>
          <p:nvPr/>
        </p:nvPicPr>
        <p:blipFill>
          <a:blip r:embed="rId2"/>
          <a:stretch/>
        </p:blipFill>
        <p:spPr>
          <a:xfrm>
            <a:off x="4317840" y="1206360"/>
            <a:ext cx="4064040" cy="317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51818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Knights of Labor (1869)-combine all workers skilled and unskill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.F.L. (1886)-seeks practical improvements for wages, working condi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amuel Gomper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cus on skilled work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gnores women and African America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urts come down on side of owners with injunctions against strik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80–1900: 23,000 strik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hicago Haymarket incident prompts fears of anarchist upris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omestead steel strik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ustrialization’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nefits and Co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e in national power and weal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ing standard of li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cost of industr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o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unr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wing disparity between rich and po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ing power of giant corpo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ustrial Develop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65-19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 nineteenth-century U.S. offers ideal conditions for rapid industrial grow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undance of cheap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pools of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st free trade market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, government support without regulation providing incentive for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160" y="1523880"/>
            <a:ext cx="8001000" cy="506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Railroads capture the imagination of the American peopl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comes safe, fast, and reliab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 rural iso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onal economic speci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ke mass production, consumption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65–1916-U.S. lays over 200,000 miles of track through federal land grants/incentives (leads to corruption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62-1869-Congress authorizes the transcontinental railroad (Union Pacific vs. Central Pacific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s meet in Utah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montory Poi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ers gain control after Panic of 1893 and impose order by consolidating power and eliminating  compet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DIVI7233372"/>
          <p:cNvPicPr/>
          <p:nvPr/>
        </p:nvPicPr>
        <p:blipFill>
          <a:blip r:embed="rId1"/>
          <a:stretch/>
        </p:blipFill>
        <p:spPr>
          <a:xfrm>
            <a:off x="533520" y="1295280"/>
            <a:ext cx="7894440" cy="464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IVI7233373"/>
          <p:cNvPicPr/>
          <p:nvPr/>
        </p:nvPicPr>
        <p:blipFill>
          <a:blip r:embed="rId2"/>
          <a:stretch/>
        </p:blipFill>
        <p:spPr>
          <a:xfrm>
            <a:off x="380880" y="1219320"/>
            <a:ext cx="8153640" cy="520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8050320" cy="57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on of Time Z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IVI7233375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15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world-map-clock-2.jpeg"/>
          <p:cNvPicPr/>
          <p:nvPr/>
        </p:nvPicPr>
        <p:blipFill>
          <a:blip r:embed="rId2"/>
          <a:stretch/>
        </p:blipFill>
        <p:spPr>
          <a:xfrm>
            <a:off x="1676520" y="1600200"/>
            <a:ext cx="5715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ialis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tains of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siness leader whose means of amassing a personal fortune contributes positively to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bber Bar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siness leader  whose means of amassing a personal fortune contributes negatively to the count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usiness of I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te nineteenth-century industry leads to new American techn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Age of Inv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legraph, camera, processed foods, telephone, phonograph, incandescent la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icity in growing use by 19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ssemer Process (refining steel) leads to mass product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DIVI369"/>
          <p:cNvPicPr/>
          <p:nvPr/>
        </p:nvPicPr>
        <p:blipFill>
          <a:blip r:embed="rId1"/>
          <a:stretch/>
        </p:blipFill>
        <p:spPr>
          <a:xfrm>
            <a:off x="4419720" y="2362320"/>
            <a:ext cx="44244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negie and Ste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his wealth in large-scale steel production (U.S. Ste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1901, Carnegie employs 20,000 and produces more steel than Great Bri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s lead to “vertical integr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:  A type of organization in which a single company owns and controls the entire process from obtaining raw materials to manufacture and sale of the finished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IVI366"/>
          <p:cNvPicPr/>
          <p:nvPr/>
        </p:nvPicPr>
        <p:blipFill>
          <a:blip r:embed="rId2"/>
          <a:stretch/>
        </p:blipFill>
        <p:spPr>
          <a:xfrm>
            <a:off x="4619520" y="1752480"/>
            <a:ext cx="4383360" cy="470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ckefeller and O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8" descr="rock.jpg"/>
          <p:cNvPicPr/>
          <p:nvPr/>
        </p:nvPicPr>
        <p:blipFill>
          <a:blip r:embed="rId1"/>
          <a:srcRect l="0" t="-41019" r="0" b="-4101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hn D. Rockefeller organizes Standard Oil Company of Ohio/creating the first known tr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ckefeller lowers costs, improves quality, establishes efficient marketing op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s lead to “horizontal integr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:  A type of organization in which a single company buys out, or merges, it competitors controlling all its competition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ell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becomes a science in late 180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ertising becomes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s become a community of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tgomery W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s-Roebu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shal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Wage Ear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bor of millions of men and women built the new industrial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75–1900 real wages rose, working conditions improved, and workers’ national influence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55:23Z</dcterms:created>
  <dc:creator>Timothy Hall</dc:creator>
  <dc:description/>
  <cp:keywords/>
  <dc:language>en-US</dc:language>
  <cp:lastModifiedBy>Thaddeus J. Brooks</cp:lastModifiedBy>
  <cp:lastPrinted>2009-03-15T17:09:07Z</cp:lastPrinted>
  <dcterms:modified xsi:type="dcterms:W3CDTF">2013-10-28T14:13:37Z</dcterms:modified>
  <cp:revision>40</cp:revision>
  <dc:subject/>
  <dc:title>THE INDUSTRIAL SOCIETY</dc:title>
</cp:coreProperties>
</file>